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EFF-A684-47CD-B61A-3BBF814A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CB4-0DA8-403F-B9D4-8285D8A9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376-EDEB-41B4-A169-66177406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A50-0F16-46A7-9B9B-0E2194E4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36FD-708A-4DCE-96D5-AEBBB720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216D-D00B-478C-8BB2-CAB7112B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791D-56CD-4CF3-8B0E-E5EC7E6E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EEF2-2FD3-4F5F-B4CE-A7A1E2CF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493-ACA1-4F82-930C-BD0AABE3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D93C-26CB-4497-8B6E-4A7837F9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36D0-D9A5-437A-9486-6154EB5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B16-9505-4A69-9E8B-D971310F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D3A-EB49-4FE4-B79C-815093EF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DB48-9836-4AB1-AFDC-58E1B438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C3DA-6FAE-4370-AD9A-FE392C82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F98C-0BD6-4E4F-B88A-3A828B73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947C-3401-4DB3-A76C-ADB6FFE7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218-44C9-437E-8419-3BE22A95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DD1-BD49-4543-8E86-76E302AE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473-D043-418B-B5F5-BD55CE5E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170-0C1C-4996-957A-2F15E65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E77-5272-4008-9D85-F1DFB70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FF9-0C5D-4BC0-B977-55972FF4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286-8EA8-4557-BED5-B812D5A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4C24-EBF9-4053-9A32-CC21C4FD56E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46B-F0CF-4731-A0FE-ADCD1F2729B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-615960" y="36360"/>
            <a:ext cx="5883120" cy="1878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http://upload.wikimedia.org/wikipedia/commons/d/d5/Raffaello_Sanzio_-_Pietro_Bembo.jpg"/>
          <p:cNvPicPr/>
          <p:nvPr/>
        </p:nvPicPr>
        <p:blipFill>
          <a:blip r:embed="rId2"/>
          <a:stretch/>
        </p:blipFill>
        <p:spPr>
          <a:xfrm>
            <a:off x="435132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te of birth: April 6, 1483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te of death: April 6, 152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was the son of Giovanni Sanzio, a painter in the ducal city of Urbin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aphael lost him at the age of eleve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didn’t become famous until after his death when people started to study hi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http://www.rcsouthwark.co.uk/media/transfiguration_raphael_det.jpg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Title 1" descr=""/>
          <p:cNvPicPr/>
          <p:nvPr/>
        </p:nvPicPr>
        <p:blipFill>
          <a:blip r:embed="rId2"/>
          <a:stretch/>
        </p:blipFill>
        <p:spPr>
          <a:xfrm>
            <a:off x="-268200" y="-648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-360" y="990360"/>
            <a:ext cx="3809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is the Transfiguration of Chris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was the final work of Raphael's life, and is believed to have been unfinished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robinurton.com/history/Renaissance/RaphSchool2.jpg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Title 1" descr=""/>
          <p:cNvPicPr/>
          <p:nvPr/>
        </p:nvPicPr>
        <p:blipFill>
          <a:blip r:embed="rId2"/>
          <a:stretch/>
        </p:blipFill>
        <p:spPr>
          <a:xfrm>
            <a:off x="115920" y="-648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-360" y="838080"/>
            <a:ext cx="25909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1508 Raphael was called by Pope Julius II was told to execute people in four small rooms of the Vatican Pala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80880" y="10666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aphael was the genius of Renaissance painter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aphael influenced painters up to the 1900'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ade people think of personality when looking at his paint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ut realistic emotions in his paint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hanged the way people look at ar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aphael painted lif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aphael changed the art worl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4:49:47Z</dcterms:created>
  <dc:creator>admin</dc:creator>
  <dc:description/>
  <dc:language>en-US</dc:language>
  <cp:lastModifiedBy>admin</cp:lastModifiedBy>
  <dcterms:modified xsi:type="dcterms:W3CDTF">2011-04-18T16:04:42Z</dcterms:modified>
  <cp:revision>8</cp:revision>
  <dc:subject/>
  <dc:title>Slide 1</dc:title>
</cp:coreProperties>
</file>